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81F-93CF-4CDA-8834-51651A9F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A49-5D4A-4649-956F-682B5E0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DA4-16AC-47FB-BB31-72797379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CBF-FB97-4CF1-A20B-D7A6F205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9DC-3B45-4168-91AB-2FD4409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269-E21A-4604-8784-A0E6EF2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E67-D0AA-4AD8-8D07-09F53D0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394-E6D4-4098-80F7-27A12C7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5A7-6E45-462D-9769-1A740AE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DCE-CF09-4820-A5E7-BE88290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8FE-A57B-45E8-8B25-73B14BA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632-F8CE-495E-9244-5B9A318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506-5BCE-4E0A-B27C-8A12D3C247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5400" spc="-1" strike="noStrike">
                <a:solidFill>
                  <a:srgbClr val="c00000"/>
                </a:solidFill>
                <a:latin typeface="Calibri"/>
              </a:rPr>
              <a:t>MLT RESEARCH, TURKEY 2012-2013</a:t>
            </a:r>
            <a:br>
              <a:rPr sz="54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PROF.DR. IRFAN ERDOGAN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43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UBLIC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TEACHER TEST  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1. The impact of MLM on student   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     performances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2. Class observations &amp; Interviews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30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May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 3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upo 7"/>
          <p:cNvGrpSpPr/>
          <p:nvPr/>
        </p:nvGrpSpPr>
        <p:grpSpPr>
          <a:xfrm>
            <a:off x="0" y="-689040"/>
            <a:ext cx="9144000" cy="1378080"/>
            <a:chOff x="0" y="-689040"/>
            <a:chExt cx="9144000" cy="1378080"/>
          </a:xfrm>
        </p:grpSpPr>
        <p:pic>
          <p:nvPicPr>
            <p:cNvPr id="79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-68904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-61992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344240"/>
            <a:ext cx="864216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TIME LINE (Short term)</a:t>
            </a:r>
            <a:br>
              <a:rPr sz="4400"/>
            </a:br>
            <a:r>
              <a:rPr b="0" lang="tr-TR" sz="4400" spc="-1" strike="noStrike">
                <a:solidFill>
                  <a:srgbClr val="17375e"/>
                </a:solidFill>
                <a:latin typeface="Calibri"/>
              </a:rPr>
              <a:t>*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Report Brief – Summit, April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*Full Report – End of June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   will be submitted to Dr. Muammer   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   Yıldız, MEB Istanbul Education Ministe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83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130480"/>
            <a:ext cx="835164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TIME LINE(Long Term)</a:t>
            </a:r>
            <a:br>
              <a:rPr sz="4400"/>
            </a:br>
            <a:r>
              <a:rPr b="0" lang="tr-TR" sz="4400" spc="-1" strike="noStrike">
                <a:solidFill>
                  <a:srgbClr val="17375e"/>
                </a:solidFill>
                <a:latin typeface="Calibri"/>
              </a:rPr>
              <a:t>*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Research submitted to TT, July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*Research submitted to PM, Aug. 2013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87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Mind Lab Turkey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February 11,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91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PRIVATE SCHOOLS - 20 </a:t>
            </a:r>
            <a:br>
              <a:rPr sz="54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PUBLIC SCHOOLS -     4</a:t>
            </a:r>
            <a:br>
              <a:rPr sz="54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TOTAL - 24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47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1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PRIVATE &amp; PUBLIC SCHOOLS</a:t>
            </a:r>
            <a:br>
              <a:rPr sz="54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STUDENTS: 4-5-6 GRADES</a:t>
            </a:r>
            <a:br>
              <a:rPr sz="5400"/>
            </a:br>
            <a:r>
              <a:rPr b="0" lang="tr-TR" sz="5400" spc="-1" strike="noStrike">
                <a:solidFill>
                  <a:srgbClr val="17375e"/>
                </a:solidFill>
                <a:latin typeface="Calibri"/>
              </a:rPr>
              <a:t>TEACHERS: ALL APPLIERS</a:t>
            </a:r>
            <a:br>
              <a:rPr sz="5400"/>
            </a:b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51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800" spc="-1" strike="noStrike">
                <a:solidFill>
                  <a:srgbClr val="c00000"/>
                </a:solidFill>
                <a:latin typeface="Calibri"/>
              </a:rPr>
              <a:t>PRIVATE SCHOOLS</a:t>
            </a:r>
            <a:br>
              <a:rPr sz="48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STUDENT TEST 1- 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The impact of MLM on student performances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25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Feb.,20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 6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55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RIVATE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STUDENT TEST 2- </a:t>
            </a: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Transference Test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NO.of QUESTIONS – 25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DATE – Feb.,21, 2013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DURATION – 6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59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RIVATE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TEACHER TEST – 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The impact of MLM on teacher performances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30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Feb.,20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3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63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UBLIC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STUDENT TEST 1- 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Sentence completion test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25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Feb.,21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 6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67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UBLIC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STUDENT TEST 2- 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The impact of MLM on student performances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25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May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 6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71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PRIVATE SCHOOLS</a:t>
            </a:r>
            <a:br>
              <a:rPr sz="4000"/>
            </a:br>
            <a:br>
              <a:rPr sz="4000"/>
            </a:br>
            <a:r>
              <a:rPr b="0" lang="tr-TR" sz="4400" spc="-1" strike="noStrike">
                <a:solidFill>
                  <a:srgbClr val="c00000"/>
                </a:solidFill>
                <a:latin typeface="Calibri"/>
              </a:rPr>
              <a:t>PUBLIC SCHOOLS</a:t>
            </a:r>
            <a:br>
              <a:rPr sz="4400"/>
            </a:br>
            <a:r>
              <a:rPr b="0" lang="tr-TR" sz="4000" spc="-1" strike="noStrike">
                <a:solidFill>
                  <a:srgbClr val="c00000"/>
                </a:solidFill>
                <a:latin typeface="Calibri"/>
              </a:rPr>
              <a:t>STUDENT TEST 3- </a:t>
            </a: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Transference test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NO.of QUESTIONS – 25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ATE – May, 2013</a:t>
            </a:r>
            <a:br>
              <a:rPr sz="4000"/>
            </a:br>
            <a:r>
              <a:rPr b="0" lang="tr-TR" sz="4000" spc="-1" strike="noStrike">
                <a:solidFill>
                  <a:srgbClr val="17375e"/>
                </a:solidFill>
                <a:latin typeface="Calibri"/>
              </a:rPr>
              <a:t>DURATION – 60 minut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upo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75" name="Espaço Reservado para Conteúdo 3" descr="Mindgroup_Faixa_amarela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m 6" descr="Mindgroup_Amarelo.png"/>
            <p:cNvPicPr/>
            <p:nvPr/>
          </p:nvPicPr>
          <p:blipFill>
            <a:blip r:embed="rId2"/>
            <a:stretch/>
          </p:blipFill>
          <p:spPr>
            <a:xfrm>
              <a:off x="6724080" y="68760"/>
              <a:ext cx="2346120" cy="12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8:03:29Z</dcterms:created>
  <dc:creator>AlvaroLC</dc:creator>
  <dc:description/>
  <dc:language>en-US</dc:language>
  <cp:lastModifiedBy>Anita Abed</cp:lastModifiedBy>
  <dcterms:modified xsi:type="dcterms:W3CDTF">2018-02-07T16:22:49Z</dcterms:modified>
  <cp:revision>73</cp:revision>
  <dc:subject/>
  <dc:title>Slide 1</dc:title>
</cp:coreProperties>
</file>